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BA7-8F8B-4058-AA11-FB7068BF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046-1CB9-47FD-8B6D-4D5F63B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F7C-7E34-4951-AB8F-87C9B6A1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719-7615-4943-A8C9-78AD1706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1FA-BAA4-426C-B395-170C791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614-906C-4658-981B-A1ACFF04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D11-7CC9-4835-98E7-3CDD8B25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39D-0B9C-4102-8675-AFFDFFD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B68-21F5-4A1C-A43C-1B198308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0B8-D6B1-4677-AC95-718E744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FFF-C0C7-4312-85E9-5CC300A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E27-B066-405A-8C8C-0BDC791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467-6C4E-4D39-BE9F-837AECACE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6520" y="930240"/>
            <a:ext cx="7664400" cy="524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0"/>
            <a:ext cx="59770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ve iconos par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los jóvenes españ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520" y="155412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ie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34468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265400"/>
            <a:ext cx="2160360" cy="576000"/>
          </a:xfrm>
          <a:custGeom>
            <a:avLst/>
            <a:gdLst>
              <a:gd name="textAreaLeft" fmla="*/ 0 w 2160360"/>
              <a:gd name="textAreaRight" fmla="*/ 2160720 w 216036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golos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97480" y="3311640"/>
            <a:ext cx="2160720" cy="57600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360036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8200" y="588492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51240" y="4365720"/>
            <a:ext cx="2160360" cy="576000"/>
          </a:xfrm>
          <a:custGeom>
            <a:avLst/>
            <a:gdLst>
              <a:gd name="textAreaLeft" fmla="*/ 0 w 2160360"/>
              <a:gd name="textAreaRight" fmla="*/ 2160720 w 216036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5884920"/>
            <a:ext cx="2160360" cy="576360"/>
          </a:xfrm>
          <a:custGeom>
            <a:avLst/>
            <a:gdLst>
              <a:gd name="textAreaLeft" fmla="*/ 0 w 2160360"/>
              <a:gd name="textAreaRight" fmla="*/ 2160720 w 2160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tat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7480" y="4176720"/>
            <a:ext cx="2160720" cy="57636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De qué se tr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907920"/>
            <a:ext cx="2952720" cy="1513080"/>
          </a:xfrm>
          <a:prstGeom prst="wedgeEllipseCallout">
            <a:avLst>
              <a:gd name="adj1" fmla="val -44356"/>
              <a:gd name="adj2" fmla="val 67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¿Regal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iero poder comprarme cosas yo 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23920"/>
            <a:ext cx="2952720" cy="1009800"/>
          </a:xfrm>
          <a:prstGeom prst="wedgeEllipseCallout">
            <a:avLst>
              <a:gd name="adj1" fmla="val 25912"/>
              <a:gd name="adj2" fmla="val 84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pendiente, 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ás rebe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4560" y="1376280"/>
            <a:ext cx="2952720" cy="1513080"/>
          </a:xfrm>
          <a:prstGeom prst="wedgeEllipseCallout">
            <a:avLst>
              <a:gd name="adj1" fmla="val -44356"/>
              <a:gd name="adj2" fmla="val 67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os lo ba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ltos com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ir si nos h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068640"/>
            <a:ext cx="2952720" cy="936720"/>
          </a:xfrm>
          <a:prstGeom prst="wedgeEllipseCallout">
            <a:avLst>
              <a:gd name="adj1" fmla="val 53657"/>
              <a:gd name="adj2" fmla="val 69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borrachars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normal ¿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92280"/>
            <a:ext cx="2952720" cy="1008000"/>
          </a:xfrm>
          <a:prstGeom prst="wedgeEllipseCallout">
            <a:avLst>
              <a:gd name="adj1" fmla="val -44356"/>
              <a:gd name="adj2" fmla="val 125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¿Es de ver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¿Duele muc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560" y="3247920"/>
            <a:ext cx="2952720" cy="1189080"/>
          </a:xfrm>
          <a:prstGeom prst="wedgeEllipseCallout">
            <a:avLst>
              <a:gd name="adj1" fmla="val -20592"/>
              <a:gd name="adj2" fmla="val 80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evos amigos por el mund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1640" y="4221000"/>
            <a:ext cx="2592360" cy="936720"/>
          </a:xfrm>
          <a:prstGeom prst="wedgeEllipseCallout">
            <a:avLst>
              <a:gd name="adj1" fmla="val -75842"/>
              <a:gd name="adj2" fmla="val 3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último grito de la 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400640"/>
            <a:ext cx="2952720" cy="1189080"/>
          </a:xfrm>
          <a:prstGeom prst="wedgeEllipseCallout">
            <a:avLst>
              <a:gd name="adj1" fmla="val 17152"/>
              <a:gd name="adj2" fmla="val 107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nca estoy fuera de contacto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d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98920" y="5157720"/>
            <a:ext cx="2952720" cy="1513080"/>
          </a:xfrm>
          <a:prstGeom prst="wedgeEllipseCallout">
            <a:avLst>
              <a:gd name="adj1" fmla="val -44356"/>
              <a:gd name="adj2" fmla="val 67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mo en mi casa pero no paro de comprar chuch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¿Qué puede causar conflictos entre vosotros y vuestros padr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29815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2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osibles causas de confli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77080" y="138096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11360" y="3429000"/>
            <a:ext cx="123984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107120" y="3645000"/>
            <a:ext cx="1703520" cy="23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01760" y="3573360"/>
            <a:ext cx="2149560" cy="1704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165720"/>
            <a:ext cx="867564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¿Qué otros conflictos podéis añadir a esta li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643280" y="3645000"/>
            <a:ext cx="2102040" cy="205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708360" y="1679400"/>
            <a:ext cx="259236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5216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osibles causas de confli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381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li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hor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e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dro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tat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idea polí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relaciones sex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2920" y="1197000"/>
            <a:ext cx="478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spect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pie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re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ordenadores /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mis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no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tareas domé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ones con otros miembros de la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¿Cuáles son los principales conflictos en tu casa? Para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8:13:38Z</dcterms:created>
  <dc:creator>Chris Fuller</dc:creator>
  <dc:description/>
  <dc:language>en-US</dc:language>
  <cp:lastModifiedBy>Owner1</cp:lastModifiedBy>
  <dcterms:modified xsi:type="dcterms:W3CDTF">2008-10-02T07:27:45Z</dcterms:modified>
  <cp:revision>2</cp:revision>
  <dc:subject/>
  <dc:title>Slide 1</dc:title>
</cp:coreProperties>
</file>